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214-B343-4338-B6EA-B93CDD85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191-D9E6-4A4C-9E17-C7BB7C8E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8EA-75AD-47B5-A76F-B8B74291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A3D-9B67-4F30-9530-42EE4DDF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DB0-7F82-4780-827B-69AAB11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186-BF4F-475C-BC17-BF57827E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2DE-12FF-4506-BD9C-02A58D55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706-3E49-497E-8CF5-34717068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E40-6CB6-4465-8CB2-5F8BB7D6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A06-E4F8-410D-A435-BA5EDE26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E6F-E626-48F4-B139-9A769FF8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CD3-DEE2-4440-9A7A-C31886A6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470C-0BE6-46A7-B602-9E660A28B8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formative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guid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formative Writing –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me general tips to remem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Use a formal tone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Be concise and to the point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Writing should be logically structure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Writing will normally be about a single topic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258920" y="3789360"/>
            <a:ext cx="914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aragraphs should have a topic sentence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Focus on facts and details related to the subject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Write in the present tense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Use the third person, it should be unbiased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• Final sentence is a summary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formative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Essay Struc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ntro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what the essay is going to be ab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Paragraph 1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your first main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Paragraph 2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your second main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Paragraph 3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your third main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nclusion – </a:t>
            </a: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Summarising your essay and its fi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formative Writing –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our 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ke all types of writing, the introduction should include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brief couple of sentences about the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of your essay – what you’re trying to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inform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r reader ab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summary of the main points you will be discussing in the essa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 main points is more than enou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formative Writing –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body of your ess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member – each paragraph should be about a single top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should include a topic sentence at the beginning (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f each paragraph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. This will sum up what you are going to talk about in the remainder of the para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 careful not to bring in any points you are going to make later. Each point is made – and developed - in each para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ing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cide what your topic is going to be ab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find out three different points that you can develop in your wr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as: 3 different ty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arfare: 3 different ty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apons of World War 1: 3 different ty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ular Callout 3"/>
          <p:cNvSpPr/>
          <p:nvPr/>
        </p:nvSpPr>
        <p:spPr>
          <a:xfrm>
            <a:off x="1131840" y="4789440"/>
            <a:ext cx="6896160" cy="1224000"/>
          </a:xfrm>
          <a:prstGeom prst="wedgeRectCallout">
            <a:avLst>
              <a:gd name="adj1" fmla="val -55884"/>
              <a:gd name="adj2" fmla="val 108467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ing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YOUR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e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r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dimensions of the trenches, problems that would ca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ease in the trench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fe in the trench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187280" y="479736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be done for any topic – just think of three different parts about it to write about. Each part then becomes a paragrap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9:47:48Z</dcterms:created>
  <dc:creator>Gibb</dc:creator>
  <dc:description/>
  <dc:language>en-US</dc:language>
  <cp:lastModifiedBy>Gibb</cp:lastModifiedBy>
  <dcterms:modified xsi:type="dcterms:W3CDTF">2011-12-13T20:17:14Z</dcterms:modified>
  <cp:revision>3</cp:revision>
  <dc:subject/>
  <dc:title>Informative Writing</dc:title>
</cp:coreProperties>
</file>